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C2D-8AC5-4F4C-B626-64282B93D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BE75-8C49-422B-94C7-FA5E0B211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056B-C417-4FF7-9D24-CA3F7A69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96E-EEC0-414B-8013-13EFA991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95F-4874-40C8-803B-D5B327F5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07A-639A-4626-80E0-98398190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30C-E273-4154-8441-5A302605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066-3F0B-416D-A4B0-8EF206BE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1E8-28B6-4E8E-B4B8-11001CA1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7E5-5D05-48EF-934E-D60570AD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369-CF24-4DC2-A0B2-9DE68D94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316-A618-4745-B4F5-8F7C1981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08D-6BD5-43A5-9A70-9FA114F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8CF-4637-4B16-80F7-0A215AB1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3B26-50D8-4B11-AA91-20D04278A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o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tambié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33Z</dcterms:modified>
  <cp:revision>102</cp:revision>
  <dc:subject/>
  <dc:title>Profile</dc:title>
</cp:coreProperties>
</file>